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ECB2-EE38-486F-BA23-D23FFFA86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12B3-BDBF-4284-A5D6-85D54FE82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F8D5-B940-4F11-9BA7-12733B4A2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CAF9-5A54-4C51-BB85-A062188E8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4579-8E4C-4E41-BE2F-44ABE8C8A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C161-98B2-4C27-AD37-2DE1EEB0D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02A6-B2DD-4D8E-BC6A-51587AE68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A289-0998-4227-98BE-4C1CC58F5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8310-150A-4817-AB98-3545FA09A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457D-3BF4-47CA-B1AE-36991EE8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7AC6-056D-43B8-95EC-B70D68CF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EC91-449A-4AC9-9914-EDC2D5644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C81CB-94CF-4E46-8C6F-EF54DAE967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295280"/>
            <a:ext cx="3733920" cy="685800"/>
          </a:xfrm>
          <a:prstGeom prst="cloudCallout">
            <a:avLst>
              <a:gd name="adj1" fmla="val -38902"/>
              <a:gd name="adj2" fmla="val 1608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2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37000" y="4713120"/>
            <a:ext cx="3581280" cy="48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 reci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4-11-07T16:47:07Z</dcterms:modified>
  <cp:revision>43</cp:revision>
  <dc:subject/>
  <dc:title>PowerPoint Presentation</dc:title>
</cp:coreProperties>
</file>